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19AF5-53F1-4D7B-8D8A-F55BCF1E2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0CF4-574D-433A-98D3-1ABFAB20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F3401-F460-4BCF-9730-C443BC991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27328-31E7-4422-B4B0-FCFFDAF62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6B36-8F59-4984-AFB5-BD870338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80E82-90C6-4937-BC4C-F8A77A07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513F5-2F21-406F-9EC7-690FEE3C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2DD7-C924-46CB-9B86-1C7055C71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B0E1-F939-4DA2-BE51-3DC125C6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16FA-BF2F-4DED-A63B-CCE3B916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666D-9F80-4AE9-8BB8-F6E5398D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8AB6-1F65-492C-A78F-87A0A81A5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00AE-A64D-4ABC-A19F-B488C1A98BC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4FDE5CC4-9954-4054-8A27-C7B6756D0ABC}" type="datetime2">
              <a:rPr b="0" lang="en-GB" sz="3600" spc="-1" strike="noStrike" u="sng">
                <a:solidFill>
                  <a:srgbClr val="000000"/>
                </a:solidFill>
                <a:uFillTx/>
                <a:latin typeface="Arial"/>
                <a:ea typeface="Verdana"/>
              </a:rPr>
              <a:t>Thursday 30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